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22C-D537-4C24-BC7D-9EBEE778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D471-8A82-48A1-9401-0521DE9C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84B-33E5-4B67-AD86-AB696342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746-B2CA-4153-9FD1-33637CF1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9A8-97F4-4B1B-9BB0-AC288497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98EB-F0EC-46DF-A94A-5D1BA070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9577-5A84-43EF-80BE-A9938260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274-5BE5-41CD-ACE7-F1055CB7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D7CD-0B1F-4760-8799-9F6332FE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48E-A8ED-4F41-8A24-5C402940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C07-467D-43D9-A368-E63C947F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2BC-5850-462A-8418-403CDADD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3A87-EEB3-4D20-9C19-2D6616126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133720"/>
            <a:ext cx="8381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-Quiz/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adratic 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65141" t="0" r="0" b="8923"/>
          <a:stretch/>
        </p:blipFill>
        <p:spPr>
          <a:xfrm>
            <a:off x="1219320" y="3809880"/>
            <a:ext cx="3792240" cy="53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0" r="34862" b="8923"/>
          <a:stretch/>
        </p:blipFill>
        <p:spPr>
          <a:xfrm>
            <a:off x="457200" y="3276720"/>
            <a:ext cx="70866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320" y="76320"/>
            <a:ext cx="8934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569880"/>
            <a:ext cx="3809880" cy="26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609480"/>
            <a:ext cx="2971800" cy="238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71360" y="0"/>
            <a:ext cx="8744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6040" y="304920"/>
            <a:ext cx="8967960" cy="2247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463860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2666880"/>
            <a:ext cx="87631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the maximum height of the project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 far from the base of the cliff will the projectile strike the wat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90440" y="1308240"/>
                <a:ext cx="2210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124080" y="1295280"/>
            <a:ext cx="3200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482840"/>
            <a:ext cx="6629400" cy="2784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886320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8-01-21T05:14:02Z</dcterms:modified>
  <cp:revision>10</cp:revision>
  <dc:subject/>
  <dc:title>Slide 1</dc:title>
</cp:coreProperties>
</file>